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C7C-3949-4D12-9F17-B4F2931B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812-EABD-4447-9C7C-D9D35D5E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6A8-47AB-4BB7-9997-E98C5F43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929-97E8-4FBF-8C67-BEC6DF26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BE58-022A-43C7-8070-5D03B3FD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01D4-491C-4937-81A9-61C56A4F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1A6F-F968-493D-8B90-C027BC69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EB68-A52F-4E7A-A0BF-B06D0D48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B4EB-9C12-427E-AAF8-2A5D6996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549C-AE18-4D9E-97EE-9A7ADE6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2603-3BB4-4248-9AD2-12EC422A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1D5-CF63-4D75-A0B8-409FBAE0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A6C8-AD8E-41AC-8F2A-9A451AB8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437E-556D-4121-8C1F-A40962C6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98A7-B8FF-4654-999C-F2568B64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6A30-EDFE-44CE-B99A-CB442961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D3F7-EAE0-4DA4-8673-6809E673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BB83-0416-471A-94DE-F37F5643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6208-41E9-4574-A50E-34C0FB3D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75B7-1EBF-44A0-8BED-388DD298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426B-75CF-4D21-88B7-6E34D4A8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B75A-9577-41DE-9F13-94A2B115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CF4-678B-44F9-B74D-72276099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C74E-C640-4DB9-875C-E871FA49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9B65-9A33-4357-A148-6551F47F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8932-84F1-44A5-8C64-6964B0B1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9E6C-FD27-470B-A3E5-41AAF3C8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3D9E-AF9F-4751-BF07-711D70BC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AC21-3601-4F00-A237-910C0132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7422-069C-40A0-85A5-93E046AB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EB7CC-A0D6-42D5-BEB2-F3B514FC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E1898-0CA2-44A8-AE30-8E5E4333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632B4-164D-4C92-8402-49177572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9FB-0C6E-480B-9950-4D3F80E4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C841-50B8-44BC-A958-7FCCFBCF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F184F-3697-4C35-BA2B-EDA3D588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24ABD-B8EC-4258-B23D-9BD3226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0BE5-0751-4BEF-ABCC-56745402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5BFA-731B-4A9D-A79B-2D31DCA1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39CE-110C-4EAB-9DAB-B172F6C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55FA-2235-47CA-85A5-DD7380B0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1447-163D-480C-BC48-6199A963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945DA-A782-4109-B4EF-EEF64D1F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474-C14D-45B8-8874-B0D3589A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6D0-C5F6-4BCA-8246-EF915BC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EE2-A667-4D0D-AA79-8270FF1D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811-BD22-42E6-A233-2263ABB2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DFD-0104-4F78-8D1D-25BD63FE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38AF-DE24-4F05-AF79-17F35A62EA5F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7EEF-DECC-436D-B43B-5C1F76EB03B8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AB41-601F-41F9-A42C-362E063FD1DC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BCBE-76D0-4CED-AE0F-6F1F8AD647C6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Enclave" TargetMode="External"/><Relationship Id="rId3" Type="http://schemas.openxmlformats.org/officeDocument/2006/relationships/hyperlink" Target="http://fr.wikipedia.org/wiki/Cabinda" TargetMode="External"/><Relationship Id="rId4" Type="http://schemas.openxmlformats.org/officeDocument/2006/relationships/hyperlink" Target="http://fr.wikipedia.org/wiki/Angola" TargetMode="External"/><Relationship Id="rId5" Type="http://schemas.openxmlformats.org/officeDocument/2006/relationships/hyperlink" Target="http://fr.wikipedia.org/wiki/R&#233;publique_du_Congo" TargetMode="External"/><Relationship Id="rId6" Type="http://schemas.openxmlformats.org/officeDocument/2006/relationships/hyperlink" Target="http://fr.wikipedia.org/wiki/R&#233;publique_centrafricaine" TargetMode="External"/><Relationship Id="rId7" Type="http://schemas.openxmlformats.org/officeDocument/2006/relationships/hyperlink" Target="http://fr.wikipedia.org/wiki/Soudan" TargetMode="External"/><Relationship Id="rId8" Type="http://schemas.openxmlformats.org/officeDocument/2006/relationships/hyperlink" Target="http://fr.wikipedia.org/wiki/Ouganda" TargetMode="External"/><Relationship Id="rId9" Type="http://schemas.openxmlformats.org/officeDocument/2006/relationships/hyperlink" Target="http://fr.wikipedia.org/wiki/Rwanda" TargetMode="External"/><Relationship Id="rId10" Type="http://schemas.openxmlformats.org/officeDocument/2006/relationships/hyperlink" Target="http://fr.wikipedia.org/wiki/Burundi" TargetMode="External"/><Relationship Id="rId11" Type="http://schemas.openxmlformats.org/officeDocument/2006/relationships/hyperlink" Target="http://fr.wikipedia.org/wiki/Tanzanie" TargetMode="External"/><Relationship Id="rId12" Type="http://schemas.openxmlformats.org/officeDocument/2006/relationships/hyperlink" Target="http://fr.wikipedia.org/wiki/Zambie" TargetMode="External"/><Relationship Id="rId13" Type="http://schemas.openxmlformats.org/officeDocument/2006/relationships/hyperlink" Target="http://fr.wikipedia.org/wiki/Angola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Bandundu" TargetMode="External"/><Relationship Id="rId3" Type="http://schemas.openxmlformats.org/officeDocument/2006/relationships/hyperlink" Target="http://fr.wikipedia.org/wiki/Bas-Congo" TargetMode="External"/><Relationship Id="rId4" Type="http://schemas.openxmlformats.org/officeDocument/2006/relationships/hyperlink" Target="http://fr.wikipedia.org/wiki/&#201;quateur_(province)" TargetMode="External"/><Relationship Id="rId5" Type="http://schemas.openxmlformats.org/officeDocument/2006/relationships/hyperlink" Target="http://fr.wikipedia.org/wiki/Kasa&#239;-Occidental" TargetMode="External"/><Relationship Id="rId6" Type="http://schemas.openxmlformats.org/officeDocument/2006/relationships/hyperlink" Target="http://fr.wikipedia.org/wiki/Kasa&#239;-Oriental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298440" y="463680"/>
            <a:ext cx="8272440" cy="2249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</a:t>
            </a: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é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nt</a:t>
            </a: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é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par Sandra B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democratic-republic-of-the-congo-flag.gif"/>
          <p:cNvPicPr/>
          <p:nvPr/>
        </p:nvPicPr>
        <p:blipFill>
          <a:blip r:embed="rId3"/>
          <a:stretch/>
        </p:blipFill>
        <p:spPr>
          <a:xfrm>
            <a:off x="304920" y="4267080"/>
            <a:ext cx="365760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Quelques photos de la RDC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8" name="Content Placeholder 12" descr="bonobos.jpg"/>
          <p:cNvPicPr/>
          <p:nvPr/>
        </p:nvPicPr>
        <p:blipFill>
          <a:blip r:embed="rId2"/>
          <a:stretch/>
        </p:blipFill>
        <p:spPr>
          <a:xfrm>
            <a:off x="304920" y="1905120"/>
            <a:ext cx="3019320" cy="1514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Bukavu1.jpg"/>
          <p:cNvPicPr/>
          <p:nvPr/>
        </p:nvPicPr>
        <p:blipFill>
          <a:blip r:embed="rId3"/>
          <a:stretch/>
        </p:blipFill>
        <p:spPr>
          <a:xfrm>
            <a:off x="685800" y="403848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les gorilles.jpg"/>
          <p:cNvPicPr/>
          <p:nvPr/>
        </p:nvPicPr>
        <p:blipFill>
          <a:blip r:embed="rId4"/>
          <a:stretch/>
        </p:blipFill>
        <p:spPr>
          <a:xfrm>
            <a:off x="41911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MBM1.jpg"/>
          <p:cNvPicPr/>
          <p:nvPr/>
        </p:nvPicPr>
        <p:blipFill>
          <a:blip r:embed="rId5"/>
          <a:stretch/>
        </p:blipFill>
        <p:spPr>
          <a:xfrm>
            <a:off x="4572000" y="4343400"/>
            <a:ext cx="2610000" cy="17524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Kinshasa, la Capital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3" name="Picture 4" descr="Kin5.jpg"/>
          <p:cNvPicPr/>
          <p:nvPr/>
        </p:nvPicPr>
        <p:blipFill>
          <a:blip r:embed="rId2"/>
          <a:stretch/>
        </p:blipFill>
        <p:spPr>
          <a:xfrm>
            <a:off x="6324480" y="47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3170915357_e73485874b_z.jpg"/>
          <p:cNvPicPr/>
          <p:nvPr/>
        </p:nvPicPr>
        <p:blipFill>
          <a:blip r:embed="rId3"/>
          <a:stretch/>
        </p:blipFill>
        <p:spPr>
          <a:xfrm>
            <a:off x="507960" y="2590920"/>
            <a:ext cx="4597560" cy="3886200"/>
          </a:xfrm>
          <a:prstGeom prst="rect">
            <a:avLst/>
          </a:prstGeom>
          <a:ln w="0">
            <a:noFill/>
          </a:ln>
        </p:spPr>
      </p:pic>
      <p:pic>
        <p:nvPicPr>
          <p:cNvPr id="225" name="Content Placeholder 9" descr="kin6.jpg"/>
          <p:cNvPicPr/>
          <p:nvPr/>
        </p:nvPicPr>
        <p:blipFill>
          <a:blip r:embed="rId4"/>
          <a:stretch/>
        </p:blipFill>
        <p:spPr>
          <a:xfrm>
            <a:off x="5486400" y="198108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Muanjadi Foundation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ttp://www.muanjadifoundation.org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        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Source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.CIA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2. https://www.cia.gov/library/publications/the-world-factbook/geos/cg.html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             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a cart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Rdc_acceuil.jpg"/>
          <p:cNvPicPr/>
          <p:nvPr/>
        </p:nvPicPr>
        <p:blipFill>
          <a:blip r:embed="rId2"/>
          <a:stretch/>
        </p:blipFill>
        <p:spPr>
          <a:xfrm>
            <a:off x="1155600" y="2057400"/>
            <a:ext cx="7378920" cy="444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La g</a:t>
            </a:r>
            <a:r>
              <a:rPr b="0" lang="en-GB" sz="4500" spc="-1" strike="noStrike">
                <a:solidFill>
                  <a:srgbClr val="666666"/>
                </a:solidFill>
                <a:latin typeface="Calibri"/>
              </a:rPr>
              <a:t>é</a:t>
            </a: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ographie physique 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pays partage ses frontières avec l’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2"/>
              </a:rPr>
              <a:t>enclav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de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3"/>
              </a:rPr>
              <a:t>Cabinda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(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4"/>
              </a:rPr>
              <a:t>Angola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) et la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5"/>
              </a:rPr>
              <a:t>République du Congo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à l’ouest, la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6"/>
              </a:rPr>
              <a:t>République centrafricain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et le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7"/>
              </a:rPr>
              <a:t>Soudan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au nord, l’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8"/>
              </a:rPr>
              <a:t>Ouganda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, le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9"/>
              </a:rPr>
              <a:t>Rwanda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, le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10"/>
              </a:rPr>
              <a:t>Burundi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et la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11"/>
              </a:rPr>
              <a:t>Tanzani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à l’est, la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12"/>
              </a:rPr>
              <a:t>Zambi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et l’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13"/>
              </a:rPr>
              <a:t>Angola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au sud.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Les provinces de la RDC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5" descr="DCongoNumbered.png"/>
          <p:cNvPicPr/>
          <p:nvPr/>
        </p:nvPicPr>
        <p:blipFill>
          <a:blip r:embed="rId2"/>
          <a:stretch/>
        </p:blipFill>
        <p:spPr>
          <a:xfrm>
            <a:off x="914400" y="1828800"/>
            <a:ext cx="5181480" cy="356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746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    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es province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7bbfd"/>
                </a:solidFill>
                <a:uFillTx/>
                <a:latin typeface="Constantia"/>
                <a:hlinkClick r:id="rId2"/>
              </a:rPr>
              <a:t>Bandund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7bbfd"/>
                </a:solidFill>
                <a:uFillTx/>
                <a:latin typeface="Constantia"/>
                <a:hlinkClick r:id="rId3"/>
              </a:rPr>
              <a:t>Bas-Cong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7bbfd"/>
                </a:solidFill>
                <a:uFillTx/>
                <a:latin typeface="Constantia"/>
                <a:hlinkClick r:id="rId4"/>
              </a:rPr>
              <a:t>Équateu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7bbfd"/>
                </a:solidFill>
                <a:uFillTx/>
                <a:latin typeface="Constantia"/>
                <a:hlinkClick r:id="rId5"/>
              </a:rPr>
              <a:t>Kasaï-Occiden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7bbfd"/>
                </a:solidFill>
                <a:uFillTx/>
                <a:latin typeface="Constantia"/>
                <a:hlinkClick r:id="rId6"/>
              </a:rPr>
              <a:t>Kasaï-Orien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atang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s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nie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ord-Kiv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rienta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ud-Kiv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es langue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angue officielle: França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4 Langues Nationale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Swahil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Tshilub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Lingal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Kikong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lus de 200 dialectes parl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Politiqu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Joseph Désiré Mobutu(30 a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aurent Désiré Kabila(5 a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Joseph Kabila(2001 jusqu’à ce jou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roits de l’homme ne sont pas respec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Élections sont prévus en  Novembre 201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              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Economi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’agriculture  est le principal secteur economiq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 taux de chomage est t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è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v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0% de la population vit en dessous du seuil de pauvre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ix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é a $2,00 par jo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Quelques scuplture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5" name="Content Placeholder 3" descr="406px-Mulwalwa_helmet_mask_Berlin-Dahlem.jpg"/>
          <p:cNvPicPr/>
          <p:nvPr/>
        </p:nvPicPr>
        <p:blipFill>
          <a:blip r:embed="rId2"/>
          <a:stretch/>
        </p:blipFill>
        <p:spPr>
          <a:xfrm>
            <a:off x="838080" y="1981080"/>
            <a:ext cx="2975040" cy="438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31px-Tissus_de_raphia_brodés._Bashoba._-_NYPL.jpg"/>
          <p:cNvPicPr/>
          <p:nvPr/>
        </p:nvPicPr>
        <p:blipFill>
          <a:blip r:embed="rId3"/>
          <a:stretch/>
        </p:blipFill>
        <p:spPr>
          <a:xfrm>
            <a:off x="4800600" y="1828800"/>
            <a:ext cx="3124080" cy="45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20:12:59Z</dcterms:created>
  <dc:creator>User</dc:creator>
  <dc:description/>
  <dc:language>en-US</dc:language>
  <cp:lastModifiedBy>Chris</cp:lastModifiedBy>
  <dcterms:modified xsi:type="dcterms:W3CDTF">2011-03-03T03:23:25Z</dcterms:modified>
  <cp:revision>37</cp:revision>
  <dc:subject/>
  <dc:title>Les risques de l’aphabetisation</dc:title>
</cp:coreProperties>
</file>